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8E33-B22F-4D76-BF69-82EBCECB8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F3CC-95BB-41F5-A376-F8C805166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E2D3-44C8-4290-97FB-45ACC583E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08D8-AC16-4FC7-969D-24217D66B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9989B-40CB-48B0-A3AA-1EDD08750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68B61-891C-49DD-994A-7C10FF190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96A0F-82A9-424C-A7F4-09BCBCAAF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0C129-4517-4DD8-8DDE-77CBF124D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B4AEE-AEE0-4715-AB1E-C97ACFEEB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54B37-E966-4DBA-AE58-0388A593F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C26FC-E777-4AAE-B22C-42CFF2F1C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9E51-C0D3-433C-9334-667A5DB82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0C67F-D1D9-475C-9D93-FC2864DC3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B8D98-3D6E-4F83-8A4F-B53B8E081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49744-D9C9-476D-BC4B-8C9051747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DE09A-BBDA-431E-9E6C-FFDE57EF4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0F34F-E248-4C5E-A3DC-31523F18F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F785FC-C54B-45F5-B35D-ED3BC62EC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EBF1DB-A9E8-4C8D-AE93-CE4A81D2F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9437B3-C65D-4898-B4DF-2EDC6A83B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696FB8-3391-433C-BF1E-1AF6240DD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53457A-F3C4-481E-8E78-B08F55DF5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542C-CD4D-45D8-9418-5F5AD9C61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044C49-3BEB-4CF8-B34B-997A9EC00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E386F0-CDB3-413A-A186-ACF2B2F37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B34884-5E5D-4C74-9AE6-829DFCF77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D9D0B4-8FC6-4599-AB3C-AB6048681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EB6695-A1CE-48A3-94B9-0BC362BB8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8D16FB-AEC3-4983-8013-5A7D61318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F1A6AA-75CE-4B9D-BFD0-B5DACF20B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51FC73-3790-4225-83A3-6B6F3A8A3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8C0192-D3E0-4EB0-BE3F-323126780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D8C40F-B095-4ED1-917A-877144D74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B4BE-0923-4CDE-AF78-F56DF0263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88CDB7-FDDD-4E6A-8173-E831939B5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B9E8B7-228E-427E-B92E-87759C57E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82601A-FF59-4F4E-886C-19DC6D177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CA2E33-5476-48F4-9940-649CB8E99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DB453F-A4A3-4087-AD98-E513D9FD7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3DC206-678F-4FB8-AC85-2551E250D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F04662-FDDF-4A9E-9DBC-0AA60C2DA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8BE03C-0311-4F11-BF58-635C2B022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CE8C6A-0138-4F73-AF87-8DA481EB2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84D988-17A4-4AA3-BC84-58191EC77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EE8F-E5BD-40CA-BCD9-9845B21C1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9747F9-3559-414C-909C-FC43F95DD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CB2B8C-A327-4283-9D32-B44F23D9C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34911B-6CC0-49CF-9A16-B9A202048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2D10CC-BCEC-4751-B56B-2D62125CC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0028B8-A13E-43F8-B94C-126352965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6BB9B2-73D3-4DDB-889E-8F75B829A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6F4924-654E-4045-BA43-3E8E8D10F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79D166-CDCA-4685-A91E-606742CD7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F692DC-7DFB-4E2F-AAFE-530E2D559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BE0F0F-BF7E-486C-BEEA-39F823373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0FCF-162A-44DD-BFDA-6BB2FC8A9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DADDB7-4C49-4E9D-916D-4C10CF8B1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AC6F-69F7-44DD-97AE-EB3F55463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897E-B1B1-46F9-96B8-451C5F7FB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850E-C2F0-4CE4-8ACD-F1C5ACD02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dddd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228600">
              <a:spcBef>
                <a:spcPts val="575"/>
              </a:spcBef>
              <a:buClr>
                <a:srgbClr val="b2b2b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822240" indent="-228600">
              <a:spcBef>
                <a:spcPts val="575"/>
              </a:spcBef>
              <a:buClr>
                <a:srgbClr val="fec3a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3" marL="1096920" indent="-228600">
              <a:spcBef>
                <a:spcPts val="575"/>
              </a:spcBef>
              <a:buClr>
                <a:srgbClr val="b32c1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4" marL="1371600" indent="-228600">
              <a:spcBef>
                <a:spcPts val="575"/>
              </a:spcBef>
              <a:buClr>
                <a:srgbClr val="b32c16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8D540-5979-4DCB-9171-AEF75D2168AD}" type="slidenum">
              <a:rPr b="0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beb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dddd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228600">
              <a:spcBef>
                <a:spcPts val="575"/>
              </a:spcBef>
              <a:buClr>
                <a:srgbClr val="b2b2b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822240" indent="-228600">
              <a:spcBef>
                <a:spcPts val="575"/>
              </a:spcBef>
              <a:buClr>
                <a:srgbClr val="fec3a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3" marL="1096920" indent="-228600">
              <a:spcBef>
                <a:spcPts val="575"/>
              </a:spcBef>
              <a:buClr>
                <a:srgbClr val="b32c1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4" marL="1371600" indent="-228600">
              <a:spcBef>
                <a:spcPts val="575"/>
              </a:spcBef>
              <a:buClr>
                <a:srgbClr val="b32c16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75921-2B06-4F28-9EE2-31D7B03BC467}" type="slidenum">
              <a:rPr b="0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beb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dddd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228600">
              <a:spcBef>
                <a:spcPts val="575"/>
              </a:spcBef>
              <a:buClr>
                <a:srgbClr val="b2b2b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822240" indent="-228600">
              <a:spcBef>
                <a:spcPts val="575"/>
              </a:spcBef>
              <a:buClr>
                <a:srgbClr val="fec3a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3" marL="1096920" indent="-228600">
              <a:spcBef>
                <a:spcPts val="575"/>
              </a:spcBef>
              <a:buClr>
                <a:srgbClr val="b32c1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4" marL="1371600" indent="-228600">
              <a:spcBef>
                <a:spcPts val="575"/>
              </a:spcBef>
              <a:buClr>
                <a:srgbClr val="b32c16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CD254-FD0D-43A4-B46B-8BB4EDB30EB6}" type="slidenum">
              <a:rPr b="0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dddd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228600">
              <a:spcBef>
                <a:spcPts val="575"/>
              </a:spcBef>
              <a:buClr>
                <a:srgbClr val="b2b2b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822240" indent="-228600">
              <a:spcBef>
                <a:spcPts val="575"/>
              </a:spcBef>
              <a:buClr>
                <a:srgbClr val="fec3a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3" marL="1096920" indent="-228600">
              <a:spcBef>
                <a:spcPts val="575"/>
              </a:spcBef>
              <a:buClr>
                <a:srgbClr val="b32c1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4" marL="1371600" indent="-228600">
              <a:spcBef>
                <a:spcPts val="575"/>
              </a:spcBef>
              <a:buClr>
                <a:srgbClr val="b32c16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83F27-0538-4CCE-9528-42D51AB0F66C}" type="slidenum">
              <a:rPr b="0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beb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dddd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228600">
              <a:spcBef>
                <a:spcPts val="575"/>
              </a:spcBef>
              <a:buClr>
                <a:srgbClr val="b2b2b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822240" indent="-228600">
              <a:spcBef>
                <a:spcPts val="575"/>
              </a:spcBef>
              <a:buClr>
                <a:srgbClr val="fec3a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3" marL="1096920" indent="-228600">
              <a:spcBef>
                <a:spcPts val="575"/>
              </a:spcBef>
              <a:buClr>
                <a:srgbClr val="b32c1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4" marL="1371600" indent="-228600">
              <a:spcBef>
                <a:spcPts val="575"/>
              </a:spcBef>
              <a:buClr>
                <a:srgbClr val="b32c16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73E30-C4F6-49BF-9BE6-09196000821B}" type="slidenum">
              <a:rPr b="0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e Opening Checklist on the Website for a Detail View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The Basics of Opening a Hotel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0" y="4996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7030a0"/>
                </a:solidFill>
                <a:latin typeface="Verdana"/>
              </a:rPr>
              <a:t>The General Manager(GM) or </a:t>
            </a:r>
            <a:br>
              <a:rPr sz="2900"/>
            </a:br>
            <a:r>
              <a:rPr b="1" lang="en-US" sz="2900" spc="-1" strike="noStrike">
                <a:solidFill>
                  <a:srgbClr val="7030a0"/>
                </a:solidFill>
                <a:latin typeface="Verdana"/>
              </a:rPr>
              <a:t>Operations Project Manager (OPM) </a:t>
            </a:r>
            <a:r>
              <a:rPr b="0" lang="en-US" sz="2900" spc="-1" strike="noStrike">
                <a:solidFill>
                  <a:srgbClr val="7030a0"/>
                </a:solidFill>
                <a:latin typeface="Verdana"/>
              </a:rPr>
              <a:t>should :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0" y="1643040"/>
            <a:ext cx="91440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dddd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view the blueprints and specifications for the entire build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75"/>
              </a:spcBef>
              <a:buClr>
                <a:srgbClr val="ddddd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ssist in creation of model roo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75"/>
              </a:spcBef>
              <a:buClr>
                <a:srgbClr val="ddddd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evelop pre-opening staff pl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75"/>
              </a:spcBef>
              <a:buClr>
                <a:srgbClr val="ddddd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evelop and manage pre-opening budge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75"/>
              </a:spcBef>
              <a:buClr>
                <a:srgbClr val="ddddd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evelop operational supplies and equipment budge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75"/>
              </a:spcBef>
              <a:buClr>
                <a:srgbClr val="ddddd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see the purchase, delivery and installation of supplies and equipme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75"/>
              </a:spcBef>
              <a:buClr>
                <a:srgbClr val="ddddd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56760" y="642600"/>
            <a:ext cx="857268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Verdana"/>
              </a:rPr>
              <a:t>Blueprints</a:t>
            </a:r>
            <a:r>
              <a:rPr b="0" lang="en-US" sz="3600" spc="-1" strike="noStrike">
                <a:solidFill>
                  <a:srgbClr val="7030a0"/>
                </a:solidFill>
                <a:latin typeface="Verdana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0" y="1928880"/>
            <a:ext cx="91440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dddd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o ensure good flow for guests, staff and good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75"/>
              </a:spcBef>
              <a:buClr>
                <a:srgbClr val="ddddd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sider the location of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228600">
              <a:spcBef>
                <a:spcPts val="374"/>
              </a:spcBef>
              <a:buClr>
                <a:srgbClr val="b2b2b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r par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228600">
              <a:spcBef>
                <a:spcPts val="374"/>
              </a:spcBef>
              <a:buClr>
                <a:srgbClr val="b2b2b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ellhop bag storage are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228600">
              <a:spcBef>
                <a:spcPts val="374"/>
              </a:spcBef>
              <a:buClr>
                <a:srgbClr val="b2b2b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ousekeeper’s close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228600">
              <a:spcBef>
                <a:spcPts val="374"/>
              </a:spcBef>
              <a:buClr>
                <a:srgbClr val="b2b2b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staurants and cafes / kitche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228600">
              <a:spcBef>
                <a:spcPts val="374"/>
              </a:spcBef>
              <a:buClr>
                <a:srgbClr val="b2b2b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0" y="6426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Verdana"/>
              </a:rPr>
              <a:t>Pre-Opening Staff Plan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1643040"/>
            <a:ext cx="91440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dddd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raw up an organization chart with all positi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75"/>
              </a:spcBef>
              <a:buClr>
                <a:srgbClr val="ddddd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raw up spreadsheet consisting of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228600">
              <a:spcBef>
                <a:spcPts val="374"/>
              </a:spcBef>
              <a:buClr>
                <a:srgbClr val="b2b2b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sition tit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228600">
              <a:spcBef>
                <a:spcPts val="374"/>
              </a:spcBef>
              <a:buClr>
                <a:srgbClr val="b2b2b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rt dat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228600">
              <a:spcBef>
                <a:spcPts val="374"/>
              </a:spcBef>
              <a:buClr>
                <a:srgbClr val="b2b2b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y rat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228600">
              <a:spcBef>
                <a:spcPts val="374"/>
              </a:spcBef>
              <a:buClr>
                <a:srgbClr val="b2b2b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onus and allowan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228600">
              <a:spcBef>
                <a:spcPts val="374"/>
              </a:spcBef>
              <a:buClr>
                <a:srgbClr val="b2b2b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enefi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0" y="1643040"/>
            <a:ext cx="91440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dddd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abor costs 40%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(taken from pre-opening staff pla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75"/>
              </a:spcBef>
              <a:buClr>
                <a:srgbClr val="ddddd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ales and marketing efforts 40%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(advertising and promotion, contracts, public relations, and travelling to see clients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75"/>
              </a:spcBef>
              <a:buClr>
                <a:srgbClr val="ddddd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iscellaneous 20%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(office space before moving, utilities, recruitment and selection costs, licenses etc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0" y="6426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Verdana"/>
              </a:rPr>
              <a:t>Pre-Opening Budget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0" y="1600200"/>
            <a:ext cx="91440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dddd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$8000 to $10000 per room for 4 or 5 star hot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75"/>
              </a:spcBef>
              <a:buClr>
                <a:srgbClr val="ddddd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ay exceed 2500 items (more for full service resort, less for in city business hotel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75"/>
              </a:spcBef>
              <a:buClr>
                <a:srgbClr val="ddddd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clude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228600">
              <a:spcBef>
                <a:spcPts val="374"/>
              </a:spcBef>
              <a:buClr>
                <a:srgbClr val="b2b2b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ront office and lobby ite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228600">
              <a:spcBef>
                <a:spcPts val="374"/>
              </a:spcBef>
              <a:buClr>
                <a:srgbClr val="b2b2b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uest room ite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228600">
              <a:spcBef>
                <a:spcPts val="374"/>
              </a:spcBef>
              <a:buClr>
                <a:srgbClr val="b2b2b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od and beverage (F&amp;B) ite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228600">
              <a:spcBef>
                <a:spcPts val="374"/>
              </a:spcBef>
              <a:buClr>
                <a:srgbClr val="b2b2b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anquet ite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228600">
              <a:spcBef>
                <a:spcPts val="374"/>
              </a:spcBef>
              <a:buClr>
                <a:srgbClr val="b2b2b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Kitchen ite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228600">
              <a:spcBef>
                <a:spcPts val="374"/>
              </a:spcBef>
              <a:buClr>
                <a:srgbClr val="b2b2b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dministrative office ite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228600">
              <a:spcBef>
                <a:spcPts val="374"/>
              </a:spcBef>
              <a:buClr>
                <a:srgbClr val="b2b2b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ff unifor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228600">
              <a:spcBef>
                <a:spcPts val="374"/>
              </a:spcBef>
              <a:buClr>
                <a:srgbClr val="b2b2b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75"/>
              </a:spcBef>
              <a:buClr>
                <a:srgbClr val="ddddd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Verdana"/>
              </a:rPr>
              <a:t>Operational Supplies and Equipment</a:t>
            </a:r>
            <a:r>
              <a:rPr b="0" lang="en-US" sz="3200" spc="-1" strike="noStrike">
                <a:solidFill>
                  <a:srgbClr val="7030a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31T14:13:32Z</dcterms:created>
  <dc:creator>robert</dc:creator>
  <dc:description/>
  <dc:language>en-US</dc:language>
  <cp:lastModifiedBy>robert</cp:lastModifiedBy>
  <dcterms:modified xsi:type="dcterms:W3CDTF">2011-04-14T05:46:07Z</dcterms:modified>
  <cp:revision>5</cp:revision>
  <dc:subject/>
  <dc:title>The Basics of Opening a Hotel</dc:title>
</cp:coreProperties>
</file>